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05E-3F2F-4491-BDE2-EDA24B89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5E1-2D56-4E5A-8B3C-9EE4FA0A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365E03-A4AB-4B21-894B-B6C4FD1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65350-6D9A-45FA-BE7E-CDB174B7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2C4A4-7E10-41DB-A952-B3DEF3F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00705-008B-422E-BFC7-8356E10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88FF9-5998-4971-A632-6BF5CC1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8D922-26FA-4EF2-8E52-386955AE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B65E9-4463-4F33-A213-0C4D47EA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D594F-0AD8-40E0-AE38-59FAD398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1D1ED8-D9BA-43CA-B272-BE9FFD8C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97B0C4-09A7-4648-A5F4-189C0F70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3A0-171F-4652-AE28-C593A1D6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7BEC1C-56C8-4D61-96CC-102EE2AB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FB7D4-076B-4448-B297-B83BE54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471B3B-21E5-45A3-9E94-3DBCA91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DCE1D8-49E6-4FEB-8172-1B65CEF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8B532-C460-4C3E-9D5F-595F7C6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9D8C4-5452-4849-9944-97D550F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930238-E500-445E-9832-B1A714E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32FDCF-0E68-47C1-921A-E9A0BCB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6E1606-6B9A-4EC4-9A2A-AAF0ACC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0A02E-B387-45A4-8F8D-B2A8348C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22A-88B6-4C11-89F6-07B606AB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90661-EDD9-4FB8-80B3-A8B949EC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0EB274-35C1-43B5-AE2F-B384622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781DA-452E-4C99-B923-C3B6112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605DF-4CFA-49F8-BA1A-2EB81440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394B11-76DA-4093-AC0D-A09F828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2ACC2-37AA-4656-AE86-71C6CDC1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E6E4C7-05C1-4522-932F-DC0BA0E5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66BEF3-81DA-4CF4-8C04-3CEBB0C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C68A1B-8C7C-4F3E-A714-7F8EAA7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E041A3-4BE1-4076-B7B2-F50212B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D2DBB4-B9A5-4EBD-A838-1EB251B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EA8BB7-AD6F-4602-9A1B-AE01CABC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4A1D74-C78B-437B-A2E8-99195254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6D7E12-4DD9-4C91-B4E2-A409CB7E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A92D81-75D6-49EB-B912-0DED6F5A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0A97E8-DA27-4B0D-9AE9-9404B17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AA1131-72C8-4D20-8769-DD0C777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0AE227-9BA1-4EDF-A555-200D31AF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15F5E4-A107-48AF-ABDD-E3CBF00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C34B6F-61AE-47C6-8844-3635B57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ADD57F-86DD-43EB-91B6-17E3DF4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892B49-7886-480F-B599-3210A86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DA9F3F-02F4-4DD6-A93A-F4C5E6B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A8A491-1D29-4666-A91E-F24F2340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F95F43-8848-44CE-AE40-6683F049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E531A-E5FD-4673-A591-37234406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5335FC-7BEA-4A93-BE77-48E7EA96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810B1-014C-4E41-B851-0703D1B8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BFEE28-33FA-48F4-9BB4-E562107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8B20C4-3AB2-4058-B7ED-C9E18F53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F4FBDB-3E6B-41C2-A2AE-4A1900B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DC1437-E289-43DF-A25F-F8A49AA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89B532-829D-4398-B6E7-1A162B2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415D76-1138-4873-96E5-22E7EA5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483C26-CB89-4C66-A066-78B6101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95550E-1F21-490A-8EE1-7B80EC1F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7DEA5-49B4-48C3-A5A6-C28446C0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E91-B8D0-47DD-8791-6670913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4FBEE-3E36-4AD9-9827-9515FEC7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B0107-5BD7-4DAA-B13E-59B51875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F8610-F0E6-43DD-A220-467AA3C7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9E435-3F70-4DF1-ABDE-05929488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AE831-55BA-48A6-8BE8-0791DB71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55F-4A7D-458B-9223-562A513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6C4C1-F594-4382-B39D-737EB42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5370-272D-4190-92A7-EE1828E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D9668-953D-43A5-8EFD-786AF604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523CE-3188-486F-A377-D42D780B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E7F8D-C28A-481A-A46C-1F4125AE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03186-BFFE-4BEE-9835-AE845FAE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6A9EE-2CFB-4454-BDFE-F27D7874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6D3AC-79E7-40AE-99AD-480E9926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B9B13-B447-42A1-8F14-2685B2D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2B591-05D4-41C0-A4F6-CA633DE1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1BD-AA02-40B0-93B7-337AE333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96F10-F852-4E1E-BE5B-31F87F44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C4312-E41A-4D7F-BFF8-15C60317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01B21-796F-444D-9147-215C8735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A5D55-FB50-420E-A83F-A21CD9D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F7443-4937-435E-8B40-F2DBC72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A6E8C-A41F-4C58-9080-A29089A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01777-14D5-409B-A8DD-1D8DCE5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AF143-3F44-45BC-B88E-7956704D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1944C-1157-4150-97B1-CACDFF7F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E3703-2506-4BD6-8BDC-5A511DA7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0CC-C7CF-4DD4-B2BF-8392227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3C176-CFB2-4599-84DD-498C230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79767-41C5-48D5-AF02-C65FE85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ECDEA-3082-43C1-A4A2-27F63905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34895-E52C-4B1F-9158-310EBE4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F9270-60F5-4254-A39E-B9DE0EB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D24F4-C906-46EC-A73F-AF50B36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48D2E-DC60-4284-B83C-B95DB8A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85AF6-58AD-4F4D-92DC-8DD0365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3F804-D5C9-40C6-BBF4-6C5A8C0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973C-F661-4A31-B47D-A2D76863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0A5-0912-437C-8883-4A48BE9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98E9E-963F-400D-9626-60FAF2D2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7A7058-926D-4782-9686-883C54EE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DFA09-E0C2-4052-8071-6F7BAB5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061FB-B6C6-4D24-BFF4-7A3C34C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CEA54-3FEE-4CC3-8D15-E2792F56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0B31D-5D4C-47CF-814E-0477FC56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644F7-C40A-43DB-89F9-730F99C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C9505-DC0C-44C5-9B3B-E81D80A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4EB9B-4129-4F78-BB40-F4A4AD2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7D2D0-828D-49DD-9AAC-329C6970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4B7-0E02-45A8-9F49-8ECDE9E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5FD90-943A-4D58-B285-92D7BBD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4345F-FCB9-4BD1-BDF3-6214B0B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FD6F4-92A8-4403-9B65-05723C0C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4241A-9D40-4640-9F02-70D79579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A7B29-6EA4-4C9D-8A06-04EDAFB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48935-1A47-4C7C-B7EA-768424E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F7F28-EA53-4A44-925E-A674E9B2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01E16-6D2E-413D-BB4B-CF34410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AAC52-13D3-4C82-8FAA-DD87E192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FED8B-398E-45D4-92C4-7151E19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9D-EBA4-4E85-8225-D870502C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E667A-8068-403B-A57E-E17169C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1235D-C044-4D57-8413-71F18CD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0E9CB-C0BD-489D-A009-732973B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ACED9-4484-4ED5-8F79-24E29769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1994C-86D4-42AB-A8FF-BEE6ECD4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E05875-12E3-4096-BB0E-31710DC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3293D-170E-4410-B2EF-DD63040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192EF-F386-4616-BEF1-BBE8B2F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D86F6-D1E1-425B-9DA3-81F5221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17CB5-2F5E-440A-BF43-B21B53C8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1BD-7543-4F78-B253-C3A5DED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C1A94-8CEF-4F1B-9F1C-E6C9119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47936-DC62-4214-9EC8-94DAB2C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2DDE6-3A0F-4FFA-A215-AA326E5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ECE1C-953F-4A3F-8539-4F05B80A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B8534-72C0-494A-B837-D3DCF50B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20E1A-D1CE-4FE7-87FE-9567839B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39055-5A7F-42FA-A5D2-97269E54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7F8AE-AB5E-43EE-A3EC-5926B576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B8290F-7DE5-4704-9DF8-6B3C0721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D01D17-D814-4CC7-BB8D-B5FD7C8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97968-B3A9-453A-A033-3DF4EDF65AC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AFED9-2A8D-4F26-9478-35CB90B1059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AC481-EF67-49E7-913D-17BED1A79D0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E3929-EF67-408B-A5C0-D7CBC10C76B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BA4CF-4FD4-4A77-846C-4350CD940AB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8464A-5E30-4D54-B5FF-0A7B3A36B20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12747-E963-400D-9F35-FA495C007C3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192C9-5CDD-481E-BDD8-420851E34D6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9F5C7-39B0-4AC3-893B-1750B5E64B0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027CF-CD8D-4B5B-802B-747C7219EE6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2E0A2-9530-47AA-961B-1CBC098CFE94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EF726-1A15-411B-B1D3-BB48E38A139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AACB4-8811-47C4-94B5-C18880EFD56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74EE3-A2D6-462B-A42C-F58305DB3D1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4D9EF-784B-455F-9897-58B01549D4F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53856-ACFF-41E5-B40A-7F8466B2694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1A73-DB22-4C84-99AE-DFF444ED7E1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FACDE-F2F8-498E-873B-CC2894A1BCA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15C9A-B643-4D9A-9807-D9619224283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A1BE9-CB1E-4BEF-9CD4-77B17027B32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03D54-C8DA-4D4F-BDAF-9E25B034325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72F9E-1309-41AF-866A-6CB4683D577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F80C8-9B05-4F2D-89B4-E35740265D8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6ED53-80D7-4C87-9D56-A981B34600E5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FF6B4-2F70-459F-9F27-4B709F018AB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2133720" y="334800"/>
            <a:ext cx="4647960" cy="617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" descr="CPPA 3.jpg"/>
          <p:cNvPicPr/>
          <p:nvPr/>
        </p:nvPicPr>
        <p:blipFill>
          <a:blip r:embed="rId2"/>
          <a:stretch/>
        </p:blipFill>
        <p:spPr>
          <a:xfrm>
            <a:off x="2173320" y="304920"/>
            <a:ext cx="444492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CPPA 15.jpg"/>
          <p:cNvPicPr/>
          <p:nvPr/>
        </p:nvPicPr>
        <p:blipFill>
          <a:blip r:embed="rId2"/>
          <a:stretch/>
        </p:blipFill>
        <p:spPr>
          <a:xfrm>
            <a:off x="2362320" y="592200"/>
            <a:ext cx="4343400" cy="595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482760" y="990720"/>
            <a:ext cx="9324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Essential Qualities Of A Team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adaptable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llabo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nlarging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m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ommunicating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dependable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enthusi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discipline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Acting with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prepare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mproving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Keeping the big picture in mind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howing tenacity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uilding relationship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ing selfless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Adapted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John C Maxwell</a:t>
            </a: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1"/>
          <p:cNvSpPr/>
          <p:nvPr/>
        </p:nvSpPr>
        <p:spPr>
          <a:xfrm>
            <a:off x="1100160" y="914400"/>
            <a:ext cx="69472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s the self that teac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y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 it lik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pyrus"/>
              </a:rPr>
              <a:t>What</a:t>
            </a:r>
            <a:r>
              <a:rPr b="0" lang="en-US" sz="1800" spc="-1" strike="noStrike">
                <a:solidFill>
                  <a:srgbClr val="ff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o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Parker J.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" descr="CPPA 14.jpg"/>
          <p:cNvPicPr/>
          <p:nvPr/>
        </p:nvPicPr>
        <p:blipFill>
          <a:blip r:embed="rId2"/>
          <a:stretch/>
        </p:blipFill>
        <p:spPr>
          <a:xfrm>
            <a:off x="1041480" y="914400"/>
            <a:ext cx="71946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04040"/>
                </a:solidFill>
                <a:latin typeface="Candara"/>
              </a:rPr>
              <a:t>Voice from a learning community</a:t>
            </a:r>
            <a:endParaRPr b="1" lang="en-US" sz="39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“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I feel that I belong here. Yes there is a place for me and I know that here I make a difference. I have the power and the skills to change those things that need to be changed. I am known as an individual and I am prized for who and what I am. I know that people here care about me. They know when I am absent and they can sense when I am hurt. I feel needed. I am part of a learning family who need each other. I feel safe here. And most of all I feel fully myself.”</a:t>
            </a: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ndara"/>
            </a:endParaRPr>
          </a:p>
          <a:p>
            <a:pPr marL="262800" indent="-2628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andara"/>
              </a:rPr>
              <a:t>Glatthorn &amp;Jailall, 2000</a:t>
            </a:r>
            <a:endParaRPr b="0" lang="en-US" sz="18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657800" y="1295280"/>
            <a:ext cx="45698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If not NOW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If not ME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eremiah 1: 4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4953240" cy="6604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100800" y="838080"/>
            <a:ext cx="88981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It  Takes A Whole Vill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o Educate A Chi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eamwork/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dult language/lear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owerfu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ommitment of al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need to “stand tall”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aking “the long journey ho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1143000" y="762120"/>
            <a:ext cx="776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pyrus"/>
              </a:rPr>
              <a:t>Standing Tall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pyrus"/>
              </a:rPr>
              <a:t>The Long Journey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Keynote address: David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t Takes A Whole Village To Educate A Chil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Oam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eptember 26 -28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572040" y="2133720"/>
            <a:ext cx="7130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Papyrus"/>
              </a:rPr>
              <a:t>Khulis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Papyrus"/>
              </a:rPr>
              <a:t>a child must g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pyrus"/>
              </a:rPr>
              <a:t>Credo Mu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1"/>
          <p:cNvSpPr/>
          <p:nvPr/>
        </p:nvSpPr>
        <p:spPr>
          <a:xfrm>
            <a:off x="990720" y="457200"/>
            <a:ext cx="76197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What m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ree Scottish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wo US Delta Rangers in Mogadish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 Polish paediatr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…  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ve in common with a grou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educators in Northern Otag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Zeala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8" descr="DownloadedFile-7.jpeg"/>
          <p:cNvPicPr/>
          <p:nvPr/>
        </p:nvPicPr>
        <p:blipFill>
          <a:blip r:embed="rId2"/>
          <a:stretch/>
        </p:blipFill>
        <p:spPr>
          <a:xfrm>
            <a:off x="1523880" y="2701800"/>
            <a:ext cx="2827440" cy="3719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DownloadedFile-8.jpeg"/>
          <p:cNvPicPr/>
          <p:nvPr/>
        </p:nvPicPr>
        <p:blipFill>
          <a:blip r:embed="rId3"/>
          <a:stretch/>
        </p:blipFill>
        <p:spPr>
          <a:xfrm>
            <a:off x="1209600" y="657360"/>
            <a:ext cx="1490760" cy="1919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" descr="DownloadedFile-9.jpeg"/>
          <p:cNvPicPr/>
          <p:nvPr/>
        </p:nvPicPr>
        <p:blipFill>
          <a:blip r:embed="rId4"/>
          <a:stretch/>
        </p:blipFill>
        <p:spPr>
          <a:xfrm>
            <a:off x="3200400" y="290520"/>
            <a:ext cx="3543480" cy="228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mattias.gif"/>
          <p:cNvPicPr/>
          <p:nvPr/>
        </p:nvPicPr>
        <p:blipFill>
          <a:blip r:embed="rId5"/>
          <a:stretch/>
        </p:blipFill>
        <p:spPr>
          <a:xfrm>
            <a:off x="4915080" y="3375000"/>
            <a:ext cx="182880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264960" y="990720"/>
            <a:ext cx="92332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child has the right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Optimal conditions in which to grow and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ive in th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Be herself/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To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To be appreciated for what he/s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Desire, claim,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Protest an in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990720" y="914400"/>
            <a:ext cx="69199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at a fever or cough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nausea is for the physicia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o a smile, a tear, a bl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hould be for the educat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dicine concerns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nly with curing the sick chi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but pedagogy cou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nurture the whole chil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anusz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762120" y="457200"/>
            <a:ext cx="15079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Childrens’ Repub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hildren are not the people of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ut people of today.They are entitled to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aken seriously.They have a right to be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y adults with tenderness and respect, as equa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ot masters and slaves. They should be allow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grow into whoever they were me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o be: the “unknown person” inside each of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s the hope for the futu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Janusz Korcz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22:17:28Z</dcterms:created>
  <dc:creator>David  Anderson</dc:creator>
  <dc:description/>
  <dc:language>en-US</dc:language>
  <cp:lastModifiedBy>St Joseph's School</cp:lastModifiedBy>
  <dcterms:modified xsi:type="dcterms:W3CDTF">2010-09-29T01:15:10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420000000000010242200207f6000400038000</vt:lpwstr>
  </property>
</Properties>
</file>